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C2E9-B36E-44FA-9B53-EEE54F098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080B-5054-44CF-A8E7-20FBEA428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0A19-CA7D-4441-A7E2-D987EC245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04AC-D905-4CAB-9C5B-8B59AE24F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DE895-E94E-4908-82C7-68012FF3F2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21CF0-FB66-40B4-8696-C6AC845400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A30D5-6BB7-4573-B88D-D751F19793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65838-67A2-4E56-83D8-E48B63DDF9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D296D-1FC1-4E09-9CA7-36BC6BE8A8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669B9-302A-478C-838C-C8C6F305CD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84036-5169-4C75-979A-C4AEE98B4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D9F0-3D59-4CA3-AFF0-171AAD8F3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746F8-B993-40DA-A4F8-D3985F47AD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2C89C-6515-41F9-8D07-4DE7936493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4F740-EC65-48BB-B885-4BE6514802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584CC-B011-4981-A72E-0D0E04A377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FCAEE-1394-482B-A6AB-DED92069E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28F6-1042-460A-B891-15A38907C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9B29-D6F3-4058-A4A7-4173E495A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B5BB-81CB-4DE6-8013-DFB6937CD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E5A2-4DC1-4945-A70D-3B67A491F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6CF8-3D0F-4738-A213-37747325C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2E73-31D9-4373-8E61-FE9474BF8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3435-857E-4868-96FC-644DC2572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95B6E07-3280-4F7E-A692-34301B7E16B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246CEB3-B8B0-4FBD-A374-703231F2AFB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54A81CF-E82C-45F0-A3B4-A7DD97F890A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75BBF60-8790-43A6-A235-0E16E1CDB3C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hyperlink" Target="http://www-class.unl.edu/psycrs/statpage/comp.html" TargetMode="External"/><Relationship Id="rId3" Type="http://schemas.openxmlformats.org/officeDocument/2006/relationships/hyperlink" Target="http://www-class.unl.edu/psycrs/statpage/comp.html" TargetMode="External"/><Relationship Id="rId4" Type="http://schemas.openxmlformats.org/officeDocument/2006/relationships/hyperlink" Target="http://www-class.unl.edu/psycrs/statpage/comp.html" TargetMode="External"/><Relationship Id="rId5" Type="http://schemas.openxmlformats.org/officeDocument/2006/relationships/hyperlink" Target="http://www-class.unl.edu/psycrs/statpage/comp.html" TargetMode="External"/><Relationship Id="rId6" Type="http://schemas.openxmlformats.org/officeDocument/2006/relationships/hyperlink" Target="http://www-class.unl.edu/psycrs/statpage/comp.html" TargetMode="External"/><Relationship Id="rId7" Type="http://schemas.openxmlformats.org/officeDocument/2006/relationships/hyperlink" Target="http://www-class.unl.edu/psycrs/statpage/comp.html" TargetMode="External"/><Relationship Id="rId8" Type="http://schemas.openxmlformats.org/officeDocument/2006/relationships/hyperlink" Target="http://www-class.unl.edu/psycrs/statpage/comp.html" TargetMode="External"/><Relationship Id="rId9" Type="http://schemas.openxmlformats.org/officeDocument/2006/relationships/hyperlink" Target="http://www-class.unl.edu/psycrs/statpage/comp.html" TargetMode="External"/><Relationship Id="rId10" Type="http://schemas.openxmlformats.org/officeDocument/2006/relationships/hyperlink" Target="http://www-class.unl.edu/psycrs/statpage/comp.html" TargetMode="External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hyperlink" Target="http://independent.academia.edu/JohnFHall/Talks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3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160020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00200"/>
          <a:ext cx="7772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600200"/>
          <a:ext cx="7925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925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160020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27240" y="160020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160020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 flipV="1">
            <a:off x="2590920" y="159984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886200"/>
            <a:ext cx="327672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Semi-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as abov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class.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unl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.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5"/>
              </a:rPr>
              <a:t>edu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6"/>
              </a:rPr>
              <a:t>/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7"/>
              </a:rPr>
              <a:t>psycrs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8"/>
              </a:rPr>
              <a:t>/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9"/>
              </a:rPr>
              <a:t>statpage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0"/>
              </a:rPr>
              <a:t>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CR x age) given group, CR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 contro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-31212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-31212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20720" y="1600200"/>
          <a:ext cx="590256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600200"/>
                    <a:ext cx="5902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V="1">
            <a:off x="1371600" y="18284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97180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Academia.edu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independent.academia.edu/JohnFHall/Ta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 and complex designs including analysis of co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Administrator</cp:lastModifiedBy>
  <dcterms:modified xsi:type="dcterms:W3CDTF">2009-10-15T13:04:41Z</dcterms:modified>
  <cp:revision>280</cp:revision>
  <dc:subject/>
  <dc:title>REGRESSION ANALYSIS</dc:title>
</cp:coreProperties>
</file>